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921-48EE-45B9-AB97-54469297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451-6501-4CF2-8880-1145665B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36942E-83F2-40DC-BFD3-96CE619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DE4E4-E1ED-41A7-A454-8FDC1ED2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A31AC-5494-4539-A5C5-9E1D5F1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918733-3D1A-4A04-85FE-E962DBD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AB5344-04E9-4FB7-854C-7AC5D62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D7678C-49D1-424D-981C-AF67714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94E49-241C-492C-8343-3D99A775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CFC15C-E068-47FC-B2B4-9DA1AB4D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A52B4-CF96-40D1-A7D6-08C85CCA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D4B-4541-4F54-AAF3-77DFE353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70E-6D51-4F07-BF86-82FF6608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9F9EF-B92C-4A11-936C-F3FA2D9C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C6495-56F9-4182-B6D8-E1D6CE66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66A23-1CA4-460E-BEFE-F019E89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2FA6F-9C0F-4D5C-8A45-AA0A6427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0B08E-A942-430D-A23E-1D865BA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296FD-1E84-4153-8C30-215B6AD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36E47-54C1-4349-BD98-ECA4AE6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458-92EC-4ADF-B565-9E8EE583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754DA-3983-4CE4-A2D5-EC1256ED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EEFF-6F5B-4936-83B1-ACF830C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9BBB8-8C11-4988-94DB-91C911A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36AFA-9782-44F6-B5F4-CA7BE2E6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86475-5158-4D40-BA81-C28E9D3F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46EC-0A66-4030-A563-55719A91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D320-C279-4B6B-A946-A017EDA8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1E43-0883-4E15-B56C-481B138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AD7A-0FD8-4327-B57A-96467AA4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38BB-EE3D-4FEF-BF4D-2C535048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032-328B-4E08-8A49-1463432E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B473-F3AF-454B-B17F-D956D974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0148-1AA3-4A70-87F8-1437B825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E7DE-46F7-4F7F-9534-8935A6D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D990-9542-44CC-BE3B-1B16CF3F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C469-3016-435F-B370-117788CE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5894-8B37-4012-9894-5C72EDA4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3DBE-CB46-4F01-8273-6A48B240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B77E2-C331-48A3-854A-5D3D32CD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CDD6A-23C0-44AF-B3B8-F8EB5651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7928C-1184-477F-B462-19F58EA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12C-6C6D-4933-83B6-84E4FF85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C2EDA-9A82-4B59-AD13-269EDB7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376AE-5306-4A98-A424-0CD3C437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C289C-656E-412C-B64D-0347346A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F037C-D885-4F46-A64D-1B7A877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E0B91-A49F-40DA-B457-1DA36A0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B2E96-FF65-4704-9191-7D22F2F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7CF76-C254-41B3-BEF3-0C98114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7C053-AB0B-4898-A590-9D94BE4A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D8E6A-DCB2-4E7F-AC85-21C1571C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257FB-6C6F-4557-B75E-FC2E01EF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FBD-BB0F-46AE-9EFD-103724B1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D8F47-2316-4957-852E-84C736C7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75E5-3D91-4620-8AE3-4FA6C27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0603-FCA4-4A6E-ADC3-56C18390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B22A-8013-457D-9AB6-D92B669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7BA8-102B-48B5-92C1-67F99314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FCCC-925D-4D01-B870-F06639A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0BC7-EC80-4D58-B5C0-6E01A36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6762-3A97-461F-8205-E18930A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F7B1-BE25-43AC-9A2E-5D858577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5E48-20FE-473D-A608-71919A79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24E-E283-465B-9F9C-C900D6A6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E143F-BC34-47E7-81C2-10B284E5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7A84-47DD-4657-B5ED-E88F9B54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89E82-76EF-43D4-814C-99789D6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88C9-5F3C-4CCE-AAA6-0F2FA3E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4653-2CA0-42D6-8016-86105900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1100C-353E-45D9-898E-B97013BC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252A-96B8-4DC1-9249-7F46DD15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D9144-1104-4F83-B1FB-0F8D05A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209D-FE55-42A4-BD59-7FB5967F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22CD-84AC-43F3-9164-B9B1053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142-8AF0-4392-912F-CF3BE85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1319C-BE69-4412-9EF8-40C41557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94A9-57DE-44B6-86B2-5276C874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E08B-631A-4DB1-9945-91DE056E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2F58-A36D-4D5F-BA57-DA80B90E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C92DB-71B0-4E72-B690-300A388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8BE44-7778-4419-AD52-C3220AD1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5E706-2250-4F06-B7A1-0865F109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084F7-1372-43DB-A074-3ED00323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A668-E1CB-47FD-AC56-3E7A87DB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D768-8644-4A8F-B569-44BA71B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0EB-5409-4353-83DC-62C203F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AE55-E7F5-4C53-A363-DFB9C6A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D6D31-1495-44C2-B436-9E01092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9B60D-7C29-47CD-BC58-3245DF5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4959-0406-46B0-990B-6EED4C19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89A1B-10BA-4FEB-9265-641EBDE2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9F83E-99F4-4915-BC52-DBED668A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ED640-9C93-458D-BA36-89B98AC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228E65-71E2-4137-BF05-F253C0AF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E1498E-3656-4A8A-A7EA-7E5A43F5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38052-BB96-4DC4-897E-8C12F2E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993-762B-4E8E-A498-44F2EA4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BCD84-71A8-4182-9D71-C196338C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312BB3-6F21-4BEC-8B26-D34748F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AD1BEA-5ADA-44E6-BB76-7CD4F310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54E61-4397-4534-8C58-A8506324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7F6A6-A793-4302-89C9-EE8485A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4E225-D211-42BF-97BE-AD434D93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E4C64-969B-4D7F-AE3C-5FB5C84F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9F620-A168-464F-BEE3-3BBB84DE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1C1EF9-9C3C-492D-A488-3DBF3950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2286D-DD50-4449-928A-B4564338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1C4F-4FBF-4D1C-A322-BA94A7D78FE6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09DA-EBBB-496A-8084-A10B649E81B9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20E-451A-44F3-98F9-3E25272CA73C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CC5-BAF7-496F-9F38-2858FFD7509E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874-90AB-4801-941D-4C23EDFA1289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73E2-82C4-43A7-9DD4-4B2FE0F50920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D971-E4AD-44A9-97A0-343FAD3A674A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2BB-5E25-47EF-89F2-2CC17AEF46EB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BC0-8328-4F5E-9FA4-145ACAD700B9}" type="slidenum">
              <a:rPr b="0" lang="es-E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ttp://video.google.es/videoplay?docid=4564467773025644582&amp;ei=WVfrSYiqEprg2wKll6XUBA&amp;q=incendios+forestales&amp;hl=es&amp;client=firefox-a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3 Título" descr=""/>
          <p:cNvPicPr/>
          <p:nvPr/>
        </p:nvPicPr>
        <p:blipFill>
          <a:blip r:embed="rId1"/>
          <a:stretch/>
        </p:blipFill>
        <p:spPr>
          <a:xfrm>
            <a:off x="725400" y="500040"/>
            <a:ext cx="8143920" cy="30481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22160" y="328752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6320" cy="17859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La deforestación y transformación del paisaje vegetal ha respetado zonas de alta montaña y regiones apartadas. Todavía se conservan bosques de hayas y robles, bosques mediterráneos de quejigos, encinas o alcornoqu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 principales de la degradación: incendios, técnicas de monocultivo, desertificació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3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190600" y="2224080"/>
            <a:ext cx="4762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571760" y="2052720"/>
            <a:ext cx="6000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Naturales: ray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Inducidas por el hombre: descuidos, provocados para ampliar tierras de cultivos, aprovechar la madera quemada, recalificaciones, venganzas personales, etc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Revisar la política de repoblaciones forestales, no abusando de especies pirófila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Fomentar la mezcla de especies y realizar trabajos de silvicultura preventivo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Tener en cuenta los intereses de la población rural a la hora de las explotaciones foresta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Establecer marcos legal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Mejorar sistemas de prevención, detección y extinción de incendio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Rockwell"/>
              </a:rPr>
              <a:t>Realizar campañas de sensibilizació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b5353"/>
                </a:solidFill>
                <a:uFillTx/>
                <a:latin typeface="Rockwell"/>
                <a:hlinkClick r:id="rId1"/>
              </a:rPr>
              <a:t>mailto:http://video.google.es/videoplay?docid=4564467773025644582&amp;ei=WVfrSYiqEprg2wKll6XUBA&amp;q=incendios+forestales&amp;hl=es&amp;client=firefox-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http://video.google.com/videoplay?docid=4564467773025644582#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http://www.youtube.com/watch?v=0ObK0872m64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0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" spc="-1" strike="noStrike">
                <a:solidFill>
                  <a:srgbClr val="ffffff"/>
                </a:solidFill>
                <a:latin typeface="Rockwell"/>
              </a:rPr>
              <a:t>"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Por 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diversidad biológica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se entiende la variabilidad de organismos vivos de cualquier fuente, incluidos, entre otras cosas, los ecosistemas terrestres y marinos y otros ecosistemas acuáticos y los complejos ecológicos de los que forman parte; comprende la diversidad dentro de cada especie, entre las especies y de los ecosistemas</a:t>
            </a:r>
            <a:r>
              <a:rPr b="1" i="1" lang="es-ES_tradnl" sz="18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Este concepto contiene tres ideas básicas: son los llamados </a:t>
            </a:r>
            <a:r>
              <a:rPr b="1" lang="es-ES_tradnl" sz="1800" spc="-1" strike="noStrike">
                <a:solidFill>
                  <a:srgbClr val="ffffff"/>
                </a:solidFill>
                <a:latin typeface="Rockwell"/>
              </a:rPr>
              <a:t>componentes de la biodiversidad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los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variedad de sistemas ecológicos diferent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Rockwell"/>
              </a:rPr>
              <a:t>La diversidad de especies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entidades biológicas naturales en las que la característica fundamental es la capacidad de intercambio genético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3)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Rockwell"/>
              </a:rPr>
              <a:t> diversidad genética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la variabilidad de genes que las especies contienen en sus poblaciones e individuos, que les hace ser ligeramente diferentes unos de otros y , con ello, les permite evolucionar y, en su caso, adaptarse a los cambios del medio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baseline="30000">
                <a:solidFill>
                  <a:srgbClr val="ffffff"/>
                </a:solidFill>
                <a:latin typeface="Rockwell"/>
              </a:rPr>
              <a:t>    </a:t>
            </a:r>
            <a:r>
              <a:rPr b="0" lang="es-ES" sz="1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Rockwell"/>
              </a:rPr>
              <a:t>Artículo 2 del Convenio Internacional sobre la Diversidad Biológica. 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Rockwell"/>
              </a:rPr>
              <a:t>Conferencia de Naciones Unidad sobre Medio Ambiente y Desarrollo. Río de Janeiro 1992.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8" name="3 Título" descr=""/>
          <p:cNvPicPr/>
          <p:nvPr/>
        </p:nvPicPr>
        <p:blipFill>
          <a:blip r:embed="rId1"/>
          <a:stretch/>
        </p:blipFill>
        <p:spPr>
          <a:xfrm>
            <a:off x="426960" y="-646200"/>
            <a:ext cx="8418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a superficie del tamaño de diez campos de fútbol ubicado en las selvas de Borneo se pueden encontrar más especies de árboles que en todo el continente norteamericano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En un solo árbol del Perú se han llegado a contabilizar un número de especies de hormigas similar al total de las que habitan en todas las islas Británicas.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Panamá, con una superficie más de 6 veces menor que la española, contiene un número identificado de vertebrados terrestres más de dos veces y media superior al español (1424 frente a 534) y eso que España es uno de los enclaves de Europa con mayor biodiversidad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5 Título" descr=""/>
          <p:cNvPicPr/>
          <p:nvPr/>
        </p:nvPicPr>
        <p:blipFill>
          <a:blip r:embed="rId1"/>
          <a:stretch/>
        </p:blipFill>
        <p:spPr>
          <a:xfrm>
            <a:off x="396720" y="255600"/>
            <a:ext cx="8552160" cy="1469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Regiones polares y circumpo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Desiert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Áreas de alta montañ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Zonas húmed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Manglar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Arrecifes de cora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radera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Bosques de coníferas y bosques caducifoli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Selv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Rockwell"/>
              </a:rPr>
              <a:t>La biodiversidad es el fruto de millones de años de evolución, resultado de adaptación de la vida a los distintos ambientes y fruto de la selección natural. Proceso descrito básicamente por Charles Darw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2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186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forma resumida se podría decir que sin ella la vida del hombre sobre la Tierra sería imposibl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la biodiversidad dependen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a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fotosíntesi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si no existiesen plantas no habría fotosíntesis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De ella, a su vez, depende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La producción primaria: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síntesis de materia  orgánica a partir de la luz solar, agua y C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Base de toda red trófica de los ecosistemas, incluyendo al hombre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Producción de oxígeno y eliminación del C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, con lo que los organismos aerobios no podrían realizar su respiración. Ello, además, contribuye al mantenimiento de la composición gaseosa de la atmósfera y a la estabilidad climátic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4" name="2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6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b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formación y el mantenimiento de los suel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sin ellos no existirían las plantas y sin ellas no existiría la vida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c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ciclos biogeoquím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: mecanismos naturales de reciclado de la materia, entre los que destacan la mineralización y saneamiento de los productos orgánicos de desecho. La ausencia de microorganismos, hongos, artrópodos y otros invertebrados implicaría la inmediata inhabitabilidad de la biosfera solo por la interrupción de esta función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d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os flujos energéticos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a lo largo de los distintos componentes de la biocenosi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e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La polinización y diseminación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 de semilla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f) 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Rockwell"/>
              </a:rPr>
              <a:t>El control de la erosión del suelo</a:t>
            </a:r>
            <a:r>
              <a:rPr b="0" lang="es-ES_tradnl" sz="2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g)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Control de poblacion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: la biodiversidad contribuye al mantenimiento de toda una serie de ajustes entre las distintas poblaciones lo que evita crecimientos explosivos de alguna de ellas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h)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Rockwell"/>
              </a:rPr>
              <a:t>La alimentación humana y la obtención de productos farmacéuticos: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La alimentación humana depende en un 99% de sustancias producidas  directamente por los seres vivo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Más del 40% de todos los medicamentos comercializados provienen   directamente de sustancias proporcionadas por los seres vivo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 Cuantos nuevos productos farmacéuticos, alimentarios o industriales obtenidos directamente o a través de la utilización de la biotecnología sobre el potencial genético procedente de la biodiversidad se perderán con la desaparición de nuevas especies, hoy todavía desconocida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28400" y="1000080"/>
            <a:ext cx="825804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La extinción de las especies depende en un 99% de causas producidas por el hombre: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Unas 100.000 especies están desapareciendo al año y de seguir con el ritmo actual la cuarta parte de todas las especies desaparecerá en un plazo de  unos 30 año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La mayor tragedia en la pérdida de la biodiversidad corresponde al proceso de destrucción de los ecosistemas más ricos en ella: los bosques tropical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Se estima que unos 20 millones de hectáreas de bosques tropicales desaparecen cada año por tala o quema. Esto supone una superficie tal que representa la desaparición, cada dos años y medio, de un territorio, donde se alberga más de la mitad de todas las especies de la tierra,  similar al total de España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La mayor parte de las especies que hoy desaparecen son desconocidas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Realmente se ha pasado de una situación en la que la extinción de especies estaba liderada por mecanismos de acoso directo: caza y pesca, fundamentalmente, a la actualidad, en donde es el deterioro global de la biosfera el que preside la amenaza sobre la biodiversidad. Las especies desaparecen porque sus medios naturales de vida se degradan o desaparecen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2" name="2 Título" descr=""/>
          <p:cNvPicPr/>
          <p:nvPr/>
        </p:nvPicPr>
        <p:blipFill>
          <a:blip r:embed="rId1"/>
          <a:stretch/>
        </p:blipFill>
        <p:spPr>
          <a:xfrm>
            <a:off x="785880" y="0"/>
            <a:ext cx="8235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92844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1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Deterioro, destrucción y fragmentación de los hábitat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Desecado de humedale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reación de Autopistas (osos asturianos)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Destrucción de bosques.</a:t>
            </a: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analización de río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Grandes embalses que inundan selvas y valle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2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Introducción de especies exótica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angrejo Americano en Europa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onejos en Australia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3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Sobreexplotación de especies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Deforestación (tala masiva de bosques tropicales)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Sobrepesca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Caza excesiva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Recolección de determinadas plantas (medicinales, etc.)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4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ontaminación de suelos, aguas y atmósfera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5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Cambio climático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Rockwell"/>
              </a:rPr>
              <a:t>6) </a:t>
            </a:r>
            <a:r>
              <a:rPr b="1" lang="es-ES_tradnl" sz="2000" spc="-1" strike="noStrike">
                <a:solidFill>
                  <a:srgbClr val="ffffff"/>
                </a:solidFill>
                <a:latin typeface="Rockwell"/>
              </a:rPr>
              <a:t>Industrialización e intensificación agrícola y forestal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Extensas superficies de monocultivos atiborrados de plaguicidas y fertilizantes.</a:t>
            </a: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Rockwell"/>
              </a:rPr>
              <a:t>Plantaciones forestales de especies de rápido  crecimiento en lugares inadecuados y con métodos destructores del medio natural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88240" indent="-21024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4" name="2 Título" descr=""/>
          <p:cNvPicPr/>
          <p:nvPr/>
        </p:nvPicPr>
        <p:blipFill>
          <a:blip r:embed="rId1"/>
          <a:stretch/>
        </p:blipFill>
        <p:spPr>
          <a:xfrm>
            <a:off x="500040" y="-171360"/>
            <a:ext cx="8485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Junto con todo lo anteriormente descrito: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Hambre en el mundo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Inundaciones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: consecuencia de la deforestación. Levante español. En Bangladesh por la deforestación del Himalaya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Desertificación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_tradnl" sz="2500" spc="-1" strike="noStrike">
                <a:solidFill>
                  <a:srgbClr val="ffffff"/>
                </a:solidFill>
                <a:latin typeface="Rockwell"/>
              </a:rPr>
              <a:t>Toda pérdida de la biodiversidad: la degradación de un bosque, la pérdida de una especie, la desaparición de una raza autóctona, etc. conlleva una </a:t>
            </a:r>
            <a:r>
              <a:rPr b="1" lang="es-ES_tradnl" sz="2500" spc="-1" strike="noStrike">
                <a:solidFill>
                  <a:srgbClr val="ffffff"/>
                </a:solidFill>
                <a:latin typeface="Rockwell"/>
              </a:rPr>
              <a:t>pérdida de nuestra calidad de vida, de nuestras expectativas de vivir mejor y un aumento de la ya larga cuenta negra de nuestra responsabilidad ética para con nuestros descendientes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6" name="2 Título" descr=""/>
          <p:cNvPicPr/>
          <p:nvPr/>
        </p:nvPicPr>
        <p:blipFill>
          <a:blip r:embed="rId1"/>
          <a:stretch/>
        </p:blipFill>
        <p:spPr>
          <a:xfrm>
            <a:off x="457200" y="-285840"/>
            <a:ext cx="8358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Protección de especies en peligro de extinción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: catalogación de las distintas especies en peligro de extinción, establecimiento de una legislación para su protección y cumplimiento de la misma, tanto a nivel nacional como internacional. Se deberá evitar el comercio indiscriminado de las mima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Establecimiento de sistemas de explotación sostenible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leyes de caza y pesca, establecimiento de cotos y períodos de veda que eviten la sobreexplotación de las distintas especies animales y vegetal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Protección de los distintos ecosistemas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  si queremos que una especie perdure, no solamente se debe de proteger a esa especie evitando su caza o captura, sino conservar sus hábitats naturales. A ello contribuye el establecimiento de Reservas de la Biosfera, Parques Nacionales y espacios protegidos. Estos, además, generan turismo, permiten la investigación científica y contribuyen al equilibrio natural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Creación de bancos de genes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,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jardines botánicos y fomento, para determinadas especies, de cría en cautividad: Aunque no es la mejor solución puede contribuir a la perdurabilidad de ciertas especie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Rockwell"/>
              </a:rPr>
              <a:t>A nivel personal, se deberá evitar el coleccionismo</a:t>
            </a:r>
            <a:r>
              <a:rPr b="0" lang="es-ES_tradnl" sz="18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Rockwell"/>
              </a:rPr>
              <a:t>de especies vegetales o animales, tanto autóctonas como exóticas; la adquisición de animales de compañía en riesgo de extinción o la introducción de especies exóticas en nuestros hábitat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65680" indent="-2656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8" name="2 Título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ttp://cencos.org/files/images/Manglares.jpg"/>
          <p:cNvPicPr/>
          <p:nvPr/>
        </p:nvPicPr>
        <p:blipFill>
          <a:blip r:embed="rId1"/>
          <a:stretch/>
        </p:blipFill>
        <p:spPr>
          <a:xfrm>
            <a:off x="1785960" y="1285920"/>
            <a:ext cx="4095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estaticos04.ocholeguas.com/imagenes/2008/09/04/1219401715_0.jpg"/>
          <p:cNvPicPr/>
          <p:nvPr/>
        </p:nvPicPr>
        <p:blipFill>
          <a:blip r:embed="rId1"/>
          <a:stretch/>
        </p:blipFill>
        <p:spPr>
          <a:xfrm>
            <a:off x="1857240" y="1500120"/>
            <a:ext cx="4381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kalipedia.com/kalipediamedia/cienciasnaturales/media/200704/17/tierrayuniverso/20070417klpcnatun_255.Ies.SCO.jpg"/>
          <p:cNvPicPr/>
          <p:nvPr/>
        </p:nvPicPr>
        <p:blipFill>
          <a:blip r:embed="rId1"/>
          <a:stretch/>
        </p:blipFill>
        <p:spPr>
          <a:xfrm>
            <a:off x="500040" y="1357200"/>
            <a:ext cx="4786200" cy="3533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teknociencia.files.wordpress.com/2009/07/coral_4.jpg"/>
          <p:cNvPicPr/>
          <p:nvPr/>
        </p:nvPicPr>
        <p:blipFill>
          <a:blip r:embed="rId2"/>
          <a:stretch/>
        </p:blipFill>
        <p:spPr>
          <a:xfrm>
            <a:off x="5715000" y="1000080"/>
            <a:ext cx="2857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http://files.nireblog.com/blogs4/procladeyanapay/files/selva.jpg"/>
          <p:cNvPicPr/>
          <p:nvPr/>
        </p:nvPicPr>
        <p:blipFill>
          <a:blip r:embed="rId1"/>
          <a:stretch/>
        </p:blipFill>
        <p:spPr>
          <a:xfrm>
            <a:off x="5572080" y="18572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http://eltamiz.com/wp-content/uploads/2007/12/selva-tropical.jpg"/>
          <p:cNvPicPr/>
          <p:nvPr/>
        </p:nvPicPr>
        <p:blipFill>
          <a:blip r:embed="rId2"/>
          <a:stretch/>
        </p:blipFill>
        <p:spPr>
          <a:xfrm>
            <a:off x="428760" y="571680"/>
            <a:ext cx="50482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html.rincondelvago.com/files/3/2/4/000633241.jpg"/>
          <p:cNvPicPr/>
          <p:nvPr/>
        </p:nvPicPr>
        <p:blipFill>
          <a:blip r:embed="rId1"/>
          <a:stretch/>
        </p:blipFill>
        <p:spPr>
          <a:xfrm>
            <a:off x="571680" y="1643040"/>
            <a:ext cx="2381040" cy="249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kalipedia.com/kalipediamedia/cienciasnaturales/media/200704/17/tierrayuniverso/20070417klpcnatun_386.Ies.SCO.jpg"/>
          <p:cNvPicPr/>
          <p:nvPr/>
        </p:nvPicPr>
        <p:blipFill>
          <a:blip r:embed="rId2"/>
          <a:stretch/>
        </p:blipFill>
        <p:spPr>
          <a:xfrm>
            <a:off x="3214800" y="1500120"/>
            <a:ext cx="52862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4 Título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620200" cy="17859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xplotaciones madederas indiscriminada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gricultura transitoria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Desarrollo de pastos para ganad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Minería a cielo abiert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Embalses gigantesco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 Título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515440" cy="141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lanes económico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ondonación de deuda extern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Usos tradicionales del bosque (extracción de caucho, frutas, semillas..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ultivo de plantas tropica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Cría de animales nativo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Piscicultu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Rockwell"/>
              </a:rPr>
              <a:t>Ecoturism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5:55:25Z</dcterms:created>
  <dc:creator>Inma</dc:creator>
  <dc:description/>
  <dc:language>en-US</dc:language>
  <cp:lastModifiedBy>inma</cp:lastModifiedBy>
  <dcterms:modified xsi:type="dcterms:W3CDTF">2012-04-19T16:50:21Z</dcterms:modified>
  <cp:revision>26</cp:revision>
  <dc:subject/>
  <dc:title>Impactos en la biosfera</dc:title>
</cp:coreProperties>
</file>